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CE3-0C9C-4D7A-9825-E1675205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E80-8F59-4887-B3B7-F367290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E1F-AA3B-4EDF-B1D4-629A3744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5D9-B8EC-4E50-AE54-E0CEE945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61CF-86E0-4C5B-8FDF-A2F0A745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E82-FA3B-4BA7-89F0-98C836C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3890-BF34-4AEC-BFA3-5761ED4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0F8-CDD6-49EB-9FC6-4A4A6E9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99A-F491-47B0-B288-F78CDE8E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F11-35FF-4AD2-BA29-89F1E22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0D2B-9EF4-42D0-B717-88799F9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A16-359E-4391-9402-43CDEFB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7D8F-7A70-4E54-B6DE-48169A4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55FD-0171-47A4-92BB-14F3802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AFE-2ACC-4E46-B60B-89CD2DD6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CFAB-D080-499D-90FB-33B9A467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69E3-AF65-492A-9A39-A38BD69B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567-D0AD-4338-9792-6761D4BE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DE-5DE8-4397-9AEF-3E81560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672-0F13-499E-9533-0940115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547-1B42-47CB-9836-C9C35BC3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14B-C6BD-4AF5-8C7C-28F80A7E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6F0-E83F-4EED-8BF7-243F93D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939-BF6F-45C0-82FA-8B4412B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B289-FCB3-4C58-82A3-6B15C760EC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39E-BDCF-457B-9E1E-3C66BB0403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ndora.com/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882520" y="2895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895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59200" y="2895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533520"/>
            <a:ext cx="382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 ABOUT M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FU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ING F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Draw screenshot"/>
          <p:cNvPicPr/>
          <p:nvPr/>
        </p:nvPicPr>
        <p:blipFill>
          <a:blip r:embed="rId2"/>
          <a:stretch/>
        </p:blipFill>
        <p:spPr>
          <a:xfrm>
            <a:off x="3809880" y="3276720"/>
            <a:ext cx="2133720" cy="15523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ANDOR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IMEEM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AIRMP3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825480" y="6094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6094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MBU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M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SAGEN.at - MAUS IM BIG MÄC"/>
          <p:cNvPicPr/>
          <p:nvPr/>
        </p:nvPicPr>
        <p:blipFill>
          <a:blip r:embed="rId1"/>
          <a:stretch/>
        </p:blipFill>
        <p:spPr>
          <a:xfrm>
            <a:off x="6400800" y="1143000"/>
            <a:ext cx="1371600" cy="10796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RICH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WEB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HADL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49160" y="45720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572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RIC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W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H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b2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TH UNDERWAT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NFL FOR A NATIOL FOOTBALL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REATH UNDER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Y NFL FOR A NATIOL FOOTBAL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b8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 to have my own h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a bachelors'  deg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on my doct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pect to have my own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ould have a bachelors' 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king on my doc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286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657600" y="1523880"/>
            <a:ext cx="14097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5:22:57Z</dcterms:created>
  <dc:creator>766935</dc:creator>
  <dc:description/>
  <dc:language>en-US</dc:language>
  <cp:lastModifiedBy>766935</cp:lastModifiedBy>
  <dcterms:modified xsi:type="dcterms:W3CDTF">2008-11-03T16:53:58Z</dcterms:modified>
  <cp:revision>6</cp:revision>
  <dc:subject/>
  <dc:title>Slide 1</dc:title>
</cp:coreProperties>
</file>